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A0D-5F68-4238-85D8-0C3CF901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AED-8A93-41EF-90A7-C24B64A5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E95-F08B-4128-8434-AA9E773F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B05-0D05-46B3-BEA7-8D3D961E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CC86-E4FC-4FD0-8438-39B862FB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34C0-C048-48AD-B1BA-B538EEC0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CC56-6452-4FD4-8538-1CB328E0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7053-5D22-48C8-90FA-CCDA11BF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7A53-1D8B-4B2F-9082-918FBB8C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FFD4-4931-4216-9AB2-44AC5001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176D-10D0-4B61-A743-BB76A739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56E-0E2E-4345-BD2E-E73C5014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71DA-2F8E-420D-BDC7-ED048C79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4A8B-32AA-4A51-B1DF-E8E4F32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9777-678C-4F76-B503-B74822CE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679E-8B88-4B97-987D-5747E018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873C-49D9-4AFC-A417-A19817DF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038-62FA-401B-AA36-A4A0A9DB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086-F8E9-4C04-B8D2-3BDC7025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C04-8F7F-4748-AF6B-048AE8ED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981-E1EB-4C17-A984-034810BC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C29-8C49-4FC3-929B-84662B9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0BB-D9DF-4ED4-AD45-AA0ED396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ED7-C078-45D7-A711-F29AD426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23E2-FC9D-4824-88EA-39F41C598AE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32B6-8DA5-43B3-B604-647C8F75DA33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 ระเบียบ ประกาศ ออกตามความใน</a:t>
            </a:r>
            <a:br>
              <a:rPr sz="4400"/>
            </a:b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พ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ร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บ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ป้องกันและปราบปรามการฟอกเงิน พ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ศ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.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254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</a:rPr>
              <a:t>โดย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</a:rPr>
              <a:t>พันตำรวจเอก สีหนาท ประยูรรัตน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</a:rPr>
              <a:t>รองเลขาธิการ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</a:rPr>
              <a:t>คณะกรรมการป้องกันและปราบปรามการฟอกเงิ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4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แบบรายงาน ระยะเวลา หลักเกณฑ์ และวิธีกา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รายงานการทำธุรกรรมในกรณีที่ปรากฏภายหลังว่ามีเหตุอันควรเชื่อได้ว่าธุรกรรมใดที่ได้กระทำไปแล้วโดยมิได้รายงานเป็นธุรกรรมที่สถาบันการเงินต้องรายงานตามมาตร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3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รายงานโดยใช้แบบ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ง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1-03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-04-3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ล้วแต่กรณ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สถาบันการเงินรายงาน  ไปยังสำนักงานภายในเจ็ดวันนับแต่วันที่มีเหตุอันควรเชื่อได้ว่าธุรกรรมที่ได้กระทำไปแล้วโดยมิได้รายงานเป็นธุรกรรมที่สถาบันการเงินต้องรายงานตามมาตร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4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แบบรายงาน ระยะเวลา หลักเกณฑ์ และวิธีกา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บบรายงานการจดทะเบียนสิทธิและนิติกรรมเกี่ยวกับอสังหาริมทรัพย์ตามมาตร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5 (1) (2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ล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(3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ใช้สำเนาคำขอจดทะเบียนสิทธิและนิติกรรมที่รับรองถูกต้อ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แบบสื่ออิเล็กทรอนิกส์ที่มีข้อมูลตามคำขอจดทะเบียนสิทธิและนิติกรรมดังกล่า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4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แบบรายงาน ระยะเวลา หลักเกณฑ์ และวิธีกา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รายงานการทำธุรกรรมตามมาตร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15 (1)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แล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(2)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สำนักงา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ที่ดินกรุงเทพมหานค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สำนักงานที่ดินจังหวัด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สำนักงานที่ดินสาข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สำนักงานที่ดินอำเภ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รายงานโดยการส่งสำเนาคำขอจดทะเบียนสิทธิและนิติกรรมที่รับรองถูกต้องที่ทำขึ้นในระหว่างวันที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1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ถึงวันสิ้นเดือน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ไปยังสำนักงานภายในห้าวันนับแต่วันถัดจากวันสิ้นเดือนที่มีการทำธุรกรรมนั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สำหรับกรณีการรายงานตามมาตร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15 (3)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ส่งสำเนาคำขอจดทะเบียนสิทธิและนิติกรรมที่รับรองถูกต้อ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AngsanaUPC"/>
              </a:rPr>
              <a:t>พร้อมทั้งบันทึกเหตุอันควรสงสัยไปยังสำนักงานภายในห้าวันนับแต่วันที่มีเหตุอันควรสงสั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4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แบบรายงาน ระยะเวลา หลักเกณฑ์ และวิธีกา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บบรายงานการทำธุรกรรมสำหรับผู้ประกอบอาชีพเกี่ยวกับการดำเนินการ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ให้คำแนะนำในการทำธุรกรรมที่เกี่ยวกับการลงทุนหรือการเคลื่อนย้ายเงินทุน ตามมาตรา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6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ให้ใช้แบบ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ป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ป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ง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-05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แบบรายงานการทำธุรกรรมรูปแบบอื่นที่มีข้อมูลเดียวกันกับแบบรายงานดังกล่าวโดยใช้แบบสื่ออิเล็กทรอนิกส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4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แบบรายงาน ระยะเวลา หลักเกณฑ์ และวิธีกา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ารรายงานการทำธุรกรรมตามมาตรา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16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วรรคหนึ่ง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ให้ผู้ประกอบอาชีพเกี่ยวกับการดำเนินการหรือให้คำแนะนำในการทำธุรกรรมที่เกี่ยวกับการลงทุนหรือการเคลื่อนย้ายเงินทุนรายงานโดยการส่งแบบรายงานไปยังสำนักงานภายในเจ็ดวันนับแต่วันที่มีเหตุอันควรเชื่อได้ว่าการทำธุรกรรมนั้นเกี่ยวข้องกับทรัพย์สินที่เกี่ยวกับการกระทำความผิดหรือเป็นธุรกรรมที่มีเหตุอันควรสงสั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ารรายงานข้อเท็จจริงให้สำนักงานทราบตามมาตรา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16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วรรคสอง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ให้ผู้ประกอบอาชีพเกี่ยวกับการดำเนินการหรือให้คำแนะนำในการทำธุรกรรมที่เกี่ยวกับการลงทุนหรือการเคลื่อนย้ายเงินทุนรายงานภายในเจ็ดวันนับแต่วันที่ปรากฏข้อเท็จจริงนั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4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แบบรายงาน ระยะเวลา หลักเกณฑ์ และวิธีกา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ารส่งแบบรายงานไปยังสำนักงานตามกฎกระทรวงนี้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อาจทำได้ด้วยวิธีใดวิธีหนึ่ง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ดังนี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1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ยื่นต่อเจ้าหน้าที่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ณ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ำนักงา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2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่งทางไปรษณีย์ลงทะเบียนตอบรั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3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่งเป็นข้อมูลทางอิเล็กทรอนิกส์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ทั้งนี้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ให้ผู้มีหน้าที่      รายงานเก็บรักษาแบบรายงานต้นฉบับไว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5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ธุรกรรมที่ได้รับการยกเว้นไม่ต้องรายงา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1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ธุรกรรมที่พระมหากษัตริย์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พระบรมราชินี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พระรัชทายาท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พระบรมวงศ์ตั้งแต่ชั้นพระองค์เจ้าขึ้นไปเป็นคู่กรณ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2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ธุรกรรมที่รัฐบาล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ราชการส่วนกลาง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ราชการส่วนภูมิภาค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     ราชการส่วนท้องถิ่น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รัฐวิสาหกิจ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องค์การมหาชน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หรือ              หน่วยงานอื่นของรัฐเป็นคู่กรณ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5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ธุรกรรมที่ได้รับการยกเว้นไม่ต้องรายงา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3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ธุรกรรมที่มูลนิธิดังต่อไปนี้เป็นคู่กรณ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มูลนิธิชัยพัฒน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มูลนิธิส่งเสริมศิลปาชีพในสมเด็จพระนางเจ้าสิริกิติ์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พระบรมราชินีนา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ค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มูลนิธิสายใจไท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5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ธุรกรรมที่ได้รับการยกเว้นไม่ต้องรายงา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4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ธุรกรรมที่เกี่ยวกับทรัพย์สินประเภทสังหาริมทรัพย์          โดยทั่วๆไปที่ทำกับสถาบันการเงิน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21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5</a:t>
            </a:r>
            <a:br>
              <a:rPr sz="4400"/>
            </a:br>
            <a:r>
              <a:rPr b="1" lang="th-TH" sz="3200" spc="-1" strike="noStrike">
                <a:solidFill>
                  <a:srgbClr val="3333cc"/>
                </a:solidFill>
                <a:latin typeface="Angsana New"/>
              </a:rPr>
              <a:t>ธุรกรรมที่เกี่ยวกับทรัพย์สินประเภทสังหาริมทรัพย์                               ที่ทำกับสถาบันการเงินที่ไม่ได้รับการยกเว้น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</a:rPr>
              <a:t>และต้องรายงาน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ธุรกรรมที่เป็นการโอนเงินในประเทศโดยใช้บริการบาทเนตตา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ระเบียบธนาคารแห่งประเทศไทยว่าด้วยการบริการบาทเนต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หรือที่เป็น        การโอนเงินข้ามประเทศระหว่างธนาคารโดยใช้บริการของ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Society for Worldwide Interbank Financial Telecommunication, limited liability Co-operative Society (S.W.I.F.T.s.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ธุรกรรมที่เกี่ยวกับทรัพย์สินที่เป็นเรือกำปั่น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รือที่มีระวางตั้งแต่หกตัน       ขึ้นไป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รือกลไฟ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หรือเรือยนต์ที่มีระวางตั้งแต่ห้าตันขึ้นไป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รวมทั้งแพด้ว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ธุรกรรมที่เกี่ยวกับทรัพย์สินที่เป็นยานพาหนะ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ครื่องมือ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ครื่องจักรกลอื่นใ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1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333399"/>
                </a:solidFill>
                <a:latin typeface="Angsana New"/>
                <a:cs typeface="AngsanaUPC"/>
              </a:rPr>
              <a:t>ให้นิติบุคคลดังต่อไปนี้เป็นสถาบันการเงิ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(1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นิติบุคคลเฉพาะกิจตามกฎหมายว่าด้วยนิติบุคคลเฉพาะกิจเพื่อการแปล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ินทรัพย์เป็นหลักทรัพ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(2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นิติบุคคลที่ได้รับอนุญาตให้ประกอบธุรกิจเกี่ยวกับปัจจัยชำระเงิ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่างประเทศตามกฎหมายว่าด้วยการควบคุมการแลกเปลี่ยนเงิ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(3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บรรษัทบริหารสินทรัพย์สถาบันการเงินตามกฎหมายว่าด้วยบรรษั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บริหารสินทรัพย์สถาบันการเงิ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(4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บริษัทบริหารสินทรัพย์ตามกฎหมายว่าด้วยบริษัทบริหารสินทรัพ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5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ธุรกรรมที่ได้รับการยกเว้นไม่ต้องรายงา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5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ารทำสัญญาประกันวินาศภัย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ว้นแต่การชดใช้ค่าสินไหมทดแทนตามสัญญาประกันวินาศภัยที่คาดว่าจะต้องจ่ายตั้งแต่สิบล้านบาทขึ้นไ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6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ารจดทะเบียนสิทธิและนิติกรรมประเภทโอนเป็นที่สาธารณประโยชน์ หรือการได้มาโดยการครอบครองหรือโดยอายุความตามมาตรา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382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มาตรา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40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ห่งประมวลกฎหมายแพ่ง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ละพาณิชย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6</a:t>
            </a:r>
            <a:br>
              <a:rPr sz="4400"/>
            </a:b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กำหนดธุรกรรมที่สถาบันการเงินต้องจัดให้ลูกค้าแสดงตน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ารทำธุรกรรมที่สถาบันการเงินจะต้องรายงานต่อสำนักงาน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ให้สถาบันการเงินจัดให้ลูกค้าแสดงตนทุกครั้งก่อนการทำธุรกรรม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ว้นแต่ลูกค้าได้แสดงตนไว้ก่อนแล้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7</a:t>
            </a:r>
            <a:br>
              <a:rPr sz="4400"/>
            </a:b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กำหนดแบบ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Cordia New"/>
              </a:rPr>
              <a:t> </a:t>
            </a: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รายการ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Cordia New"/>
              </a:rPr>
              <a:t> </a:t>
            </a: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หลักเกณฑ์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Cordia New"/>
              </a:rPr>
              <a:t> </a:t>
            </a:r>
            <a:br>
              <a:rPr sz="3600"/>
            </a:b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และวิธีการบันทึกข้อเท็จจริงของลูกค้าสถาบันการเงิน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ารบันทึกข้อเท็จจริงต่าง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ๆ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กี่ยวกับธุรกรรมที่สถาบันการเงินจะต้องรายงานต่อสำนักงาน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ให้ใช้แบบรายงานการทำธุรกรรมสำหรับธุรกรรมตามมาตรา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3 (1) (2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3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ล้วแต่กรณี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ทั้งนี้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ามที่กำหนดในกฎกระทรวงออกตามความในมาตรา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ล่าวคือ ให้ใช้แบบ ป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ป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ง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-01 , 1-02 , 1-03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   แบบ ป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ป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ง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      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-04-1 , 1-04-2 , 1-04-3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แบบการบันทึกข้อเท็จจริงแล้วแต่กรณี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7</a:t>
            </a:r>
            <a:br>
              <a:rPr sz="4400"/>
            </a:b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กำหนดแบบ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Cordia New"/>
              </a:rPr>
              <a:t> </a:t>
            </a: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รายการ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Cordia New"/>
              </a:rPr>
              <a:t> </a:t>
            </a: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หลักเกณฑ์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Cordia New"/>
              </a:rPr>
              <a:t> </a:t>
            </a:r>
            <a:br>
              <a:rPr sz="3600"/>
            </a:b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และวิธีการบันทึกข้อเท็จจริงของลูกค้าสถาบันการเงิ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ารบันทึกข้อเท็จจริง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ให้ลูกค้าลงลายมือชื่อไว้เป็นสำคั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ในกรณีที่ลูกค้าปฏิเสธที่จะทำบันทึกข้อเท็จจริงหรือปฏิเสธที่จะล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ลายมือชื่อในบันทึกดังกล่าว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ให้สถาบันการเงินจัดทำบันทึกข้อเท็จจริงโดยระบุข้อเท็จจริงเท่าที่ปรากฏในขณะทำธุรกรรม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ล้วแจ้งให้สำนักงานทราบทันท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8 </a:t>
            </a:r>
            <a:br>
              <a:rPr sz="4400"/>
            </a:b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กำหนดหลักเกณฑ์และวิธีการในการตรวจสอบรายงาน                                         และข้อมูลเกี่ยวกับการทำธุรกรรม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ข้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มื่อสำนักงานได้รับรายงานการทำธุรกรรมหรือข้อมูลเกี่ยวกับการทำธุรกรรมแล้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ทำการตรวจสอบเบื้องต้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ถ้าปรากฏว่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ทำธุรกรรมใดมีเหตุอันควรเชื่อได้ว่าอาจมีการโอ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จำหน่า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ยักย้า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กปิ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ซ่อนเร้นทรัพย์สินใดที่เป็นทรัพย์สินที่เกี่ยวกับการกระทำความผิ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สำนักงานเสนอเรื่องให้คณะกรรมการธุรกรรมเพื่อพิจารณาสั่งการตามมาตร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48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โดยเร็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ทั้งนี้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ภายในเจ็ดวันนับแต่วันที่ได้พบเหตุเช่นนั้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8</a:t>
            </a:r>
            <a:br>
              <a:rPr sz="4400"/>
            </a:b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กำหนดหลักเกณฑ์และวิธีการในการตรวจสอบรายงาน                                         และข้อมูลเกี่ยวกับการทำธุรกรรม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นการพิจารณาของคณะกรรมการธุรกรร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ถ้าเห็นว่าเรื่องที่เสนอม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ยังไม่เพียงพอที่จะพิจารณาสั่งการตามมาตร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4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คณะกรรมการธุรกรรมอาจมอบหมายให้พนักงานเจ้าหน้าที่ซึ่งได้รับมอบหมายเป็นหนังสือจากเลขาธิการดำเนินการตรวจสอบเพิ่มเติมแล้วรายงานให้ทราบก็ได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8</a:t>
            </a:r>
            <a:br>
              <a:rPr sz="4400"/>
            </a:b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กำหนดหลักเกณฑ์และวิธีการในการตรวจสอบรายงาน                                         และข้อมูลเกี่ยวกับการทำธุรกรรม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ข้อ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2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นกรณีที่คณะกรรมการธุรกรรมเห็นว่าเรื่องที่เสนอมาตามข้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1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อาจดำเนินการตามมาตร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4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ได้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พียงแต่ยังขาดหลักฐานบางประการที่จะทำให้เชื่อได้ว่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ทรัพย์สินใดเป็นทรัพย์สินที่เกี่ยวกับการกระทำความผิ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คณะกรรมการธุรกรรมดำเนินการตรวจสอบทรัพย์สินหรือจะมอบหมายให้พนักงานเจ้าหน้าที่ซึ่งได้รับมอบหมายเป็นหนังสือจากเลขาธิการดำเนินการตรวจสอบทรัพย์สินเพื่อให้ได้มาซึ่งหลักฐานดังกล่า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8</a:t>
            </a:r>
            <a:br>
              <a:rPr sz="4400"/>
            </a:br>
            <a:r>
              <a:rPr b="1" lang="th-TH" sz="3600" spc="-1" strike="noStrike">
                <a:solidFill>
                  <a:srgbClr val="3333cc"/>
                </a:solidFill>
                <a:latin typeface="Times New Roman"/>
                <a:cs typeface="Cordia New"/>
              </a:rPr>
              <a:t>กำหนดหลักเกณฑ์และวิธีการในการตรวจสอบรายงาน                                         และข้อมูลเกี่ยวกับการทำธุรกรรม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ข้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นกรณีที่ปรากฏหลักฐานเป็นที่เชื่อได้ว่าทรัพย์สินใดเป็นทรัพย์สินที่เกี่ยวกับการกระทำความผิ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คณะกรรมการธุรกรรมส่งเรื่องให้เลขาธิการดำเนินการต่อไปตามมาตร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4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โดยเร็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9</a:t>
            </a:r>
            <a:br>
              <a:rPr sz="4400"/>
            </a:br>
            <a:r>
              <a:rPr b="1" lang="th-TH" sz="3200" spc="-1" strike="noStrike">
                <a:solidFill>
                  <a:srgbClr val="3333cc"/>
                </a:solidFill>
                <a:latin typeface="Angsana New"/>
              </a:rPr>
              <a:t>กำหนดหลักเกณฑ์และวิธีการในการแสดงหลักฐานว่าเงินหรือทรัพย์สิน                   ในการทำธุรกรรมมิใช่ทรัพย์สินที่เกี่ยวกับการกระทำความผิด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ขอเพิกถอนการยึดหรืออายัดทรัพย์สินตามมาตร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48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วรรคสี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ผู้ทำธุรกรรมซึ่งถูกสั่งยึดหรืออายัดทรัพย์สินหรือผู้มีส่วนได้เสียในทรัพย์สินยื่นคำขอต่อเลขาธิการ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พร้อมด้วยหลักฐานที่แสดงว่าเงินหรือทรัพย์สินในการทำธุรกรรมนั้นมิใช่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cs typeface="AngsanaUPC"/>
              </a:rPr>
              <a:t>ทรัพย์สินที่เกี่ยวกับการกระทำความผิ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9</a:t>
            </a:r>
            <a:br>
              <a:rPr sz="4400"/>
            </a:br>
            <a:r>
              <a:rPr b="1" lang="th-TH" sz="3200" spc="-1" strike="noStrike">
                <a:solidFill>
                  <a:srgbClr val="3333cc"/>
                </a:solidFill>
                <a:latin typeface="Angsana New"/>
              </a:rPr>
              <a:t>กำหนดหลักเกณฑ์และวิธีการในการแสดงหลักฐานว่าเงินหรือทรัพย์สิน                     ในการทำธุรกรรมมิใช่ทรัพย์สินที่เกี่ยวกับการกระทำความผิ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มื่อเจ้าหน้าที่ของสำนักงานได้ตรวจสอบคำขอและหลักฐานที่ถูกต้องครบถ้วนแล้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เสนอคำขอพร้อมทั้งหลักฐานและความเห็นต่อเลขาธิการเพื่อพิจารณาเสนอความเห็นต่อคณะกรรมการธุรกรรมพิจารณามีคำสั่งเพิกถอนการยึดหรืออายัดทรัพย์สินนั้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2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333399"/>
                </a:solidFill>
                <a:latin typeface="Angsana New"/>
              </a:rPr>
              <a:t>การรายงานการทำธุรกรรมของสถาบันการเงิ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1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ธุรกรรมที่ใช้เงินสดจำนวนเงินสดตั้งแต่สองล้านบาทหรือกว่านั้นขึ้นไ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2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ธุรกรรมที่เกี่ยวกับทรัพย์สินที่มีมูลค่าทรัพย์สินตั้งแต่ห้าล้านบาทหรือกว่านั้นขึ้นไ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9</a:t>
            </a:r>
            <a:br>
              <a:rPr sz="4400"/>
            </a:br>
            <a:r>
              <a:rPr b="1" lang="th-TH" sz="3200" spc="-1" strike="noStrike">
                <a:solidFill>
                  <a:srgbClr val="3333cc"/>
                </a:solidFill>
                <a:latin typeface="Angsana New"/>
              </a:rPr>
              <a:t>กำหนดหลักเกณฑ์และวิธีการในการแสดงหลักฐานว่าเงินหรือทรัพย์สิน                   ในการทำธุรกรรมมิใช่ทรัพย์สินที่เกี่ยวกับการกระทำความผิ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ผู้ยื่นคำขอเพิกถอนการยึดหรืออายัดมีสิทธิเข้าชี้แจงหรือนำบุคค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ที่เกี่ยวข้องหรือที่ปรึกษาเข้าร่วมชี้แจงเพื่อประกอบการพิจารณาคำขอและหลักฐานที่ได้แสดงไว้ตามข้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10</a:t>
            </a:r>
            <a:br>
              <a:rPr sz="4400"/>
            </a:br>
            <a:r>
              <a:rPr b="1" lang="th-TH" sz="3600" spc="-1" strike="noStrike">
                <a:solidFill>
                  <a:srgbClr val="3333cc"/>
                </a:solidFill>
                <a:latin typeface="Angsana New"/>
              </a:rPr>
              <a:t>หลักเกณฑ์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</a:rPr>
              <a:t>วิธีการ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</a:rPr>
              <a:t>และเงื่อนไขในการยึดหรืออายัดทรัพย์สินและการประเมินราคาทรัพย์สินที่ยึดหรืออายัดไว้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หมว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การยึดและอายัดทรัพย์สิ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หมว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การประเมินราคาทรัพย์สิ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ngsana New"/>
              </a:rPr>
              <a:t>ประกาศสำนักนายกรัฐมนตร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ำหนดแบบบัตรประจำตัวพนักงานเจ้าหน้าที่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cs typeface="AngsanaUPC"/>
              </a:rPr>
              <a:t>ตามพระราชบัญญัติป้องกันและปราบปรามการฟอกเงิน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cs typeface="AngsanaUPC"/>
              </a:rPr>
              <a:t>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cs typeface="AngsanaUPC"/>
              </a:rPr>
              <a:t>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. 254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Cordia New"/>
                <a:cs typeface="AngsanaUPC"/>
              </a:rPr>
              <a:t>กำหนดคุณสมบัติและลักษณะต้องห้ามของกรรมการธุรกรรม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Angsana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Cordia New"/>
                <a:cs typeface="AngsanaUPC"/>
              </a:rPr>
              <a:t>วิธีการแสดงตนของลูกค้าสถาบันการเงิน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Angsana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ประกาศสำนักนายกรัฐมนตรี</a:t>
            </a:r>
            <a:br>
              <a:rPr sz="4400"/>
            </a:br>
            <a:r>
              <a:rPr b="1" lang="th-TH" sz="4000" spc="-1" strike="noStrike">
                <a:solidFill>
                  <a:srgbClr val="3333cc"/>
                </a:solidFill>
                <a:latin typeface="Cordia New"/>
                <a:cs typeface="AngsanaUPC"/>
              </a:rPr>
              <a:t>คุณสมบัติและลักษณะต้องห้ามของกรรมการธุรกรรม</a:t>
            </a:r>
            <a:r>
              <a:rPr b="1" lang="en-US" sz="4400" spc="-1" strike="noStrike">
                <a:solidFill>
                  <a:srgbClr val="ff0000"/>
                </a:solidFill>
                <a:latin typeface="Cordia New"/>
                <a:ea typeface="AngsanaUPC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ผู้ซึ่งจะได้รับการแต่งตั้งเป็นกรรมการธุรกรรมต้องเป็นผู้ที่มีความรู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ความเชี่ยวชาญในทางเศรษฐศาสตร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เงิ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คลั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ฎหมา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ทางใดทางหนึ่งที่เป็นประโยชน์ในการปฏิบัติงานตามพระราชบัญญัติป้องกันและปราบปรามการฟอกเงิ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. 254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ประกาศสำนักนายกรัฐมนตรี</a:t>
            </a:r>
            <a:br>
              <a:rPr sz="4400"/>
            </a:br>
            <a:r>
              <a:rPr b="1" lang="th-TH" sz="4000" spc="-1" strike="noStrike">
                <a:solidFill>
                  <a:srgbClr val="3333cc"/>
                </a:solidFill>
                <a:latin typeface="Cordia New"/>
                <a:cs typeface="AngsanaUPC"/>
              </a:rPr>
              <a:t>คุณสมบัติของกรรมการธุรกรรม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ต้องมีคุณสมบัติอย่างหนึ่งอย่างใด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ดังต่อไปนี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(1)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ป็นหรือเคยเป็นข้าราชการตั้งแต่ระดับ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8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เทียบเท่า    ขึ้นไ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(2)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ป็นหรือเคยเป็นพนักงานรัฐวิสาหกิจหรือหน่วยงานของรัฐในตำแหน่งตั้งแต่หัวหน้าฝ่ายหรือเทียบเท่าขึ้นไ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(3)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ป็นหรือเคยเป็นผู้สอนวิชาในสาขาดังกล่าวและดำรงตำแหน่งหรือเคยดำรงตำแหน่งตั้งแต่ผู้ช่วยศาสตราจารย์ขึ้นไ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ประกาศสำนักนายกรัฐมนตรี</a:t>
            </a:r>
            <a:br>
              <a:rPr sz="4400"/>
            </a:br>
            <a:r>
              <a:rPr b="1" lang="th-TH" sz="4000" spc="-1" strike="noStrike">
                <a:solidFill>
                  <a:srgbClr val="3333cc"/>
                </a:solidFill>
                <a:latin typeface="Cordia New"/>
                <a:cs typeface="AngsanaUPC"/>
              </a:rPr>
              <a:t>ลักษณะต้องห้ามของกรรมการธุรกรรม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ต้องไม่มีลักษณะต้องห้ามดังต่อไปนี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1)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ป็นสมาชิกพรรคการเมือ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กรรมการ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เจ้าหน้าที่พรรคการเมือ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2)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ป็นสมาชิกสภาผู้แทนราษฎร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สมาชิกวุฒิสภ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สมาชิกสภาท้องถิ่น ผู้บริหารท้องถิ่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เป็นข้าราชการการเมือ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3)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ป็นกรรมการในรัฐวิสาหกิ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ประกาศสำนักนายกรัฐมนตรี</a:t>
            </a:r>
            <a:br>
              <a:rPr sz="4400"/>
            </a:br>
            <a:r>
              <a:rPr b="1" lang="th-TH" sz="4000" spc="-1" strike="noStrike">
                <a:solidFill>
                  <a:srgbClr val="3333cc"/>
                </a:solidFill>
                <a:latin typeface="Cordia New"/>
                <a:cs typeface="AngsanaUPC"/>
              </a:rPr>
              <a:t>ลักษณะต้องห้ามของกรรมการธุรกรรม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4)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ป็นกรรมการในหน่วยงานของรัฐ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ว้นแต่จะได้รับอนุมัติจากคณะกรรมกา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5)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ป็นกรรมการ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ผู้จัดการ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ที่ปรึกษ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ดำรงตำแหน่งอื่นใดที่มีลักษณะคล้ายกันหรือมีผลประโยชน์เกี่ยวข้องในห้างหุ้นส่ว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บริษัท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สถาบันการเงิ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ประกอบอาชีพหรือวิชาชีพอย่างอื่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ประกอบการใ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อันขัดต่อการปฏิบัติหน้าที่ตามพระราชบัญญัติป้องกันและปราบปรามการฟอกเงิ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. 254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ngsana New"/>
              </a:rPr>
              <a:t>ประกาศสำนักนายกรัฐมนตรี</a:t>
            </a:r>
            <a:br>
              <a:rPr sz="4400"/>
            </a:br>
            <a:r>
              <a:rPr b="1" lang="hi-IN" sz="4000" spc="-1" strike="noStrike">
                <a:solidFill>
                  <a:srgbClr val="3333cc"/>
                </a:solidFill>
                <a:latin typeface="Angsana New"/>
              </a:rPr>
              <a:t>วิธีการแสดงตนของลูกค้าสถาบันการเงิน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ข้อ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ารแสดงตนของลูกค้าซึ่งเป็นบุคคลธรรมดา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อย่างน้อยต้องแสดงข้อมูลและหลักฐานดังต่อไปนี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1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ชื่อและนามสกุ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2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ลขประจำตัวประชาชน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เลขหนังสือเดินทางในกรณีที่เป็นคนต่างด้า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3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ที่อยู่ตามทะเบียนบ้านหรือถิ่นที่อยู่ในประเทศไทยในกรณีที่เป็นคนต่างด้า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4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วันเดือนปีเกิ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ngsana New"/>
              </a:rPr>
              <a:t>ประกาศสำนักนายกรัฐมนตรี</a:t>
            </a:r>
            <a:br>
              <a:rPr sz="4400"/>
            </a:br>
            <a:r>
              <a:rPr b="1" lang="hi-IN" sz="4000" spc="-1" strike="noStrike">
                <a:solidFill>
                  <a:srgbClr val="3333cc"/>
                </a:solidFill>
                <a:latin typeface="Angsana New"/>
              </a:rPr>
              <a:t>วิธีการแสดงตนของลูกค้าสถาบันการเงิน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5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พ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6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สถานภา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7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สัญชาต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8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ลักฐานสำคัญประจำตัวบุคคลได้แก่บัตรประจำตัวประชาช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บัตรประจำตัวข้าราชการหรือพนักงานรัฐวิสาหกิจหรือเจ้าหน้าที่อื่นของรัฐ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นังสือเดินทา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รือเอกสารประจำตัวอื่นที่ออกโดยทางราชกา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ngsana New"/>
              </a:rPr>
              <a:t>ประกาศสำนักนายกรัฐมนตรี</a:t>
            </a:r>
            <a:br>
              <a:rPr sz="4400"/>
            </a:br>
            <a:r>
              <a:rPr b="1" lang="hi-IN" sz="4000" spc="-1" strike="noStrike">
                <a:solidFill>
                  <a:srgbClr val="3333cc"/>
                </a:solidFill>
                <a:latin typeface="Angsana New"/>
              </a:rPr>
              <a:t>วิธีการแสดงตนของลูกค้าสถาบันการเงิน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9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อาชี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สถานที่ทำงา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ละหมายเลขโทรศัพท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10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สถานที่สะดวกในการติดต่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ละหมายเลขโทรศัพท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11) 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cs typeface="AngsanaUPC"/>
              </a:rPr>
              <a:t>ลายมือชื่อผู้ทำธุรกรร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3</a:t>
            </a:r>
            <a:br>
              <a:rPr sz="4400"/>
            </a:br>
            <a:r>
              <a:rPr b="1" lang="th-TH" sz="4000" spc="-1" strike="noStrike">
                <a:solidFill>
                  <a:srgbClr val="333399"/>
                </a:solidFill>
                <a:latin typeface="Angsana New"/>
              </a:rPr>
              <a:t>การรายงานการทำธุรกรรมของสำนักงานที่ดิน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ขอจดทะเบียนสิทธิและนิติกรรมเกี่ยวกับอสังหาริมทรัพย์ตามมาตร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5 (1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ล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(2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กระทำเฉพาะที่มีการชำระด้วยเงินสดหรือมูลค่าของอสังหาริมทรัพย์ดังนี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(1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ชำระด้วยเงินสดตามมาตร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5 (1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ป็นจำนวนตั้งแต่สองล้านบาทหรือกว่านั้นขึ้นไ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(2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อสังหาริมทรัพย์มีมูลค่าตามมาตร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5 (2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ตั้งแต่ห้าล้านบาทหรือกว่านั้นขึ้นไ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ngsana New"/>
              </a:rPr>
              <a:t>ประกาศสำนักนายกรัฐมนตรี</a:t>
            </a:r>
            <a:br>
              <a:rPr sz="4400"/>
            </a:br>
            <a:r>
              <a:rPr b="1" lang="hi-IN" sz="4000" spc="-1" strike="noStrike">
                <a:solidFill>
                  <a:srgbClr val="3333cc"/>
                </a:solidFill>
                <a:latin typeface="Angsana New"/>
              </a:rPr>
              <a:t>วิธีการแสดงตนของลูกค้าสถาบันการเงิน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นกรณีที่สถาบันการเงินสามารถตรวจสอบความถูกต้องขอ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ข้อมูลตามข้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ด้วยวิธีการทางอิเล็กทรอนิกส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สถาบันการเงินอาจให้ลูกค้าแสดงตนด้วยการแสดงเฉพาะชื่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นามสกุ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วันเดือนปีเกิ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ลขประจำตัวประชาช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ละลายมือชื่อผู้ทำธุรกรรมก็ได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ngsana New"/>
              </a:rPr>
              <a:t>ประกาศสำนักนายกรัฐมนตรี</a:t>
            </a:r>
            <a:br>
              <a:rPr sz="4400"/>
            </a:br>
            <a:r>
              <a:rPr b="1" lang="hi-IN" sz="4000" spc="-1" strike="noStrike">
                <a:solidFill>
                  <a:srgbClr val="3333cc"/>
                </a:solidFill>
                <a:latin typeface="Angsana New"/>
              </a:rPr>
              <a:t>วิธีการแสดงตนของลูกค้าสถาบันการเงิน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แสดงตนของลูกค้าซึ่งเป็นนิติบุคค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อย่างน้อยต้องแสดงข้อมู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ละหลักฐานดังต่อไปนี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1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ชื่อนิติบุคค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2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เลขประจำตัวผู้เสียภาษีอาก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3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สถานที่ตั้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ละหมายเลขโทรศัพท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4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ระเภทการประกอบกา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ngsana New"/>
              </a:rPr>
              <a:t>ประกาศสำนักนายกรัฐมนตรี</a:t>
            </a:r>
            <a:br>
              <a:rPr sz="4400"/>
            </a:br>
            <a:r>
              <a:rPr b="1" lang="hi-IN" sz="4000" spc="-1" strike="noStrike">
                <a:solidFill>
                  <a:srgbClr val="3333cc"/>
                </a:solidFill>
                <a:latin typeface="Angsana New"/>
              </a:rPr>
              <a:t>วิธีการแสดงตนของลูกค้าสถาบันการเงิน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5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หนังสือรับรองข้อความในทะเบียนที่นายทะเบียนออกให้ไม่เกินหนึ่งเดือ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6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ตราประทับของนิติบุคค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ถ้าม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7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บัตรประจำตัวผู้เสียภาษีอาก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(8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ลายมือชื่อผู้มีอำนาจลงนามแทนนิติบุคค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ngsana New"/>
              </a:rPr>
              <a:t>ระเบียบสำนักนายกรัฐมนตร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คุณสมบัต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แต่งตั้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ปฏิบัติหน้าที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ละการกำกับดูแลการปฏิบัติหน้าที่ของ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cs typeface="AngsanaUPC"/>
              </a:rPr>
              <a:t>พนักงานเจ้าหน้าที่ตามพระราชบัญญัติป้องกันและปราบปรามการฟอกเงิน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cs typeface="AngsanaUPC"/>
              </a:rPr>
              <a:t>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cs typeface="AngsanaUPC"/>
              </a:rPr>
              <a:t>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Cordia New"/>
              </a:rPr>
              <a:t>. 254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ngsana New"/>
              </a:rPr>
              <a:t>ระเบียบคณะกรรมการป้องกันและปราบปรามการฟอกเงิ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การเก็บรักษาและการจัดการทรัพย์สินที่ถูกยึด หรืออายัด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การประเมินค่าเสียหายและค่าเสื่อมสภาพ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การให้ผู้มีส่วนได้เสียรับทรัพย์สินไปดูแล และใช้ประโยชน์ การนำทรัพย์สินออกขายทอดตลาด และการนำทรัพย์สินไปใช้เพื่อประโยชน์ของทางราชการ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ahoma"/>
              </a:rPr>
              <a:t>สรุป</a:t>
            </a:r>
            <a:br>
              <a:rPr sz="3600"/>
            </a:br>
            <a:r>
              <a:rPr b="1" lang="hi-IN" sz="3600" spc="-1" strike="noStrike">
                <a:solidFill>
                  <a:srgbClr val="333399"/>
                </a:solidFill>
                <a:latin typeface="Tahoma"/>
              </a:rPr>
              <a:t>กฎกระทรวง ระเบียบ ประกาศ ออกตามความใน                         พ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hi-IN" sz="3600" spc="-1" strike="noStrike">
                <a:solidFill>
                  <a:srgbClr val="333399"/>
                </a:solidFill>
                <a:latin typeface="Tahoma"/>
              </a:rPr>
              <a:t>ร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hi-IN" sz="3600" spc="-1" strike="noStrike">
                <a:solidFill>
                  <a:srgbClr val="333399"/>
                </a:solidFill>
                <a:latin typeface="Tahoma"/>
              </a:rPr>
              <a:t>บ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hi-IN" sz="3600" spc="-1" strike="noStrike">
                <a:solidFill>
                  <a:srgbClr val="333399"/>
                </a:solidFill>
                <a:latin typeface="Tahoma"/>
              </a:rPr>
              <a:t>ป้องกันและปราบปรามการฟอกเงิน พ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hi-IN" sz="3600" spc="-1" strike="noStrike">
                <a:solidFill>
                  <a:srgbClr val="333399"/>
                </a:solidFill>
                <a:latin typeface="Tahoma"/>
              </a:rPr>
              <a:t>ศ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en-US" sz="3600" spc="-1" strike="noStrike">
                <a:solidFill>
                  <a:srgbClr val="333399"/>
                </a:solidFill>
                <a:latin typeface="Angsana New"/>
              </a:rPr>
              <a:t>2542</a:t>
            </a:r>
            <a:r>
              <a:rPr b="0" lang="en-US" sz="3600" spc="-1" strike="noStrike">
                <a:solidFill>
                  <a:srgbClr val="333399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กฎกระทรวง จำนวน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ฉบั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ระเบียบสำนักนายกรัฐมนตรี จำนวน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ฉบั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ระเบียบคณะกรรมการป้องกันและปราบปรามการฟอกเงิน       จำนวน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ฉบั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ประกาศสำนักนายกรัฐมนตรี จำนวน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ฉบั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รวมจำนวนทั้งสิ้น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17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ฉบั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4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แบบรายงาน ระยะเวลา หลักเกณฑ์ และวิธีกา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ข้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บบรายงานการทำธุรกรรมตามมาตร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3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ให้ใช้ดังนี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(1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บบรายงานธุรกรรมที่ใช้เงินสด                                             ให้ใช้แบบ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 1-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(2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บบรายงานธุรกรรมที่เกี่ยวกับทรัพย์สิน                                        ให้ใช้แบบ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 1-0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(3)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บบรายงานธุรกรรมที่มีเหตุอันควรสงสัย                                    ให้ใช้แบบ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 1-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4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แบบรายงาน ระยะเวลา หลักเกณฑ์ และวิธีกา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8000"/>
                </a:solidFill>
                <a:latin typeface="Tahoma"/>
                <a:cs typeface="AngsanaUPC"/>
              </a:rPr>
              <a:t>บริษัทประกันชีวิตตามกฎหมายว่าด้วยการประกันชีวิตหรือ             บริษัทประกันวินาศภัยตามกฎหมายว่าด้วยการประกันวินาศภั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รณีเป็นธุรกรรมเงินสด                                                                 ให้ใช้แบบ 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 1-04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รณีเป็นธุรกรรมที่เกี่ยวกับทรัพย์สิน                                              ให้ใช้แบบ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 1-04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รณีที่เป็นธุรกรรมที่มีเหตุอันควรสงสัย                                               ให้ใช้แบบ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. 1-04-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4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แบบรายงาน ระยะเวลา หลักเกณฑ์ และวิธีกา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ถาบันการเงินอาจใช้แบบรายงานการทำธุรกรรมรูปแบบอื่น            ที่มีข้อมูลเดียวกันกับแบบรายงานที่กำหนดไว้                                           โดยใช้แบบสื่ออิเล็กทรอนิกส์แทนก็ได้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4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แบบรายงาน ระยะเวลา หลักเกณฑ์ และวิธีกา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รายงานการทำธุรกรรมที่ใช้เงินสด และ ธุรกรรมที่เกี่ยวกับทรัพย์สินให้สถาบันการเงินรายงานโดยการส่งแบบรายงานที่ทำขึ้นในระหว่างวันที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ถึงวันที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5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ละที่ทำขึ้นในระหว่างวันที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6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ถึงวันสิ้นเดือ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ไปยังสำนักงานภายในเจ็ดวันนับแต่วันถัดจากวันที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15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และวันสิ้นเดือนของเดือนที่มีการทำธุรกรรมนั้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ngsana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กฎกระทรวงฉบับที่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4</a:t>
            </a:r>
            <a:br>
              <a:rPr sz="4400"/>
            </a:br>
            <a:r>
              <a:rPr b="1" lang="th-TH" sz="4400" spc="-1" strike="noStrike">
                <a:solidFill>
                  <a:srgbClr val="3333cc"/>
                </a:solidFill>
                <a:latin typeface="Angsana New"/>
              </a:rPr>
              <a:t>แบบรายงาน ระยะเวลา หลักเกณฑ์ และวิธีกา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รายงานการทำธุรกรรมที่มีเหตุอันควรสงสัยให้สถาบันการเงินรายงานโดยการส่งแบบรายงานไปยังสำนักงานภายในเจ็ดวันนับแต่วันที่มีเหตุอันควรสงสั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AngsanaUPC"/>
              </a:rPr>
              <a:t>การรายงานข้อเท็จจริงให้สำนักงานทราบในกรณีที่ปรากฏว่ามี      ข้อเท็จจริงใดที่เกี่ยวข้อง หรืออาจจะเป็นประโยชน์ในการยืนยัน หรือยกเลิกข้อเท็จจริงเกี่ยวกับธุรกรรมที่สถาบันการเงินได้รายงานไปแล้ว 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cs typeface="AngsanaUPC"/>
              </a:rPr>
              <a:t>ให้สถาบันการเงินรายงานภายในเจ็ดวันนับแต่วันที่ปรากฏข้อเท็จจริงนั้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15:49:29Z</dcterms:created>
  <dc:creator>Mr. Customer</dc:creator>
  <dc:description/>
  <dc:language>en-US</dc:language>
  <cp:lastModifiedBy>taniya</cp:lastModifiedBy>
  <dcterms:modified xsi:type="dcterms:W3CDTF">2007-06-13T06:31:50Z</dcterms:modified>
  <cp:revision>36</cp:revision>
  <dc:subject/>
  <dc:title>กฎกระทรวง ระเบียบ ประกาศที่ออกตามความใน พ.ร.บ.ป้องกันและปราบปรามการฟอกเงิน พ.ศ.2542</dc:title>
</cp:coreProperties>
</file>